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D40-DE9F-4743-9B0A-7E156E3E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581-FED1-402C-A459-2C5B0096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8AE-9CEC-460E-9645-CBA10909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B2D-1446-4DBA-9E42-8F30A560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7B2-FF10-4CCF-8621-43E90CA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88C-7937-4376-8AD7-CD2D5B37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2E6-27D1-4E36-8FD6-8841251D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F4D-1337-42F3-8515-0F19E7FD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E26-537B-47F4-8555-F9B300D7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FB2-CF0B-4D4E-9FCA-DED0B9C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333-2B5B-47F8-88CA-3BE9823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ED9-1D45-4054-9AEB-81B46ED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85E-4CB9-4FD4-83A5-542F963C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slide" Target="slide2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284720" y="4508640"/>
            <a:ext cx="431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6453360" y="2046240"/>
            <a:ext cx="215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6589800" y="2444760"/>
            <a:ext cx="2014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6589800" y="2843280"/>
            <a:ext cx="2014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6740640" y="3286080"/>
            <a:ext cx="1863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829040" y="3713040"/>
            <a:ext cx="3775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6105600" y="4125960"/>
            <a:ext cx="2498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1155600"/>
            <a:ext cx="8964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898640"/>
            <a:ext cx="8964720" cy="323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189000"/>
            <a:ext cx="34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Ciencias 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" y="2116080"/>
            <a:ext cx="8474400" cy="26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2360" y="479736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9040" y="1587600"/>
            <a:ext cx="8474040" cy="385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44500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95640" y="189000"/>
            <a:ext cx="446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Económico - Administr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4800" y="2125800"/>
            <a:ext cx="8474400" cy="260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4768920"/>
            <a:ext cx="81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4800" y="1035000"/>
            <a:ext cx="8474400" cy="534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2360" y="656892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95640" y="189000"/>
            <a:ext cx="446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Ingeniería y Tecnolog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3080" y="1973160"/>
            <a:ext cx="8996400" cy="29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2360" y="508464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080" y="1263600"/>
            <a:ext cx="8996400" cy="4330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2360" y="573408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517760"/>
            <a:ext cx="8474400" cy="443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95640" y="189000"/>
            <a:ext cx="446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Educación y Human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6613560"/>
            <a:ext cx="57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90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6613560"/>
            <a:ext cx="57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6560" y="907920"/>
            <a:ext cx="8282160" cy="546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189000"/>
            <a:ext cx="34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Ciencias de la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6613560"/>
            <a:ext cx="57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549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960" y="1162080"/>
            <a:ext cx="8344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9960" y="1650960"/>
            <a:ext cx="8344080" cy="355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37372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43280" y="189000"/>
            <a:ext cx="34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Ciencias Exa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893080" cy="3073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4869000"/>
            <a:ext cx="81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93440" cy="4700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1080" y="5848200"/>
            <a:ext cx="81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* Las metas deben expresarse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cumulando</a:t>
            </a: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 los valores establecidos desde el PIFI 3.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43280" y="189000"/>
            <a:ext cx="34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66"/>
                </a:solidFill>
                <a:latin typeface="Tahoma"/>
              </a:rPr>
              <a:t>Ciencias Natu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0080" y="836640"/>
            <a:ext cx="8864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1360" y="1052640"/>
            <a:ext cx="88646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16:17:41Z</dcterms:created>
  <dc:creator>Miguel Angel</dc:creator>
  <dc:description/>
  <dc:language>en-US</dc:language>
  <cp:lastModifiedBy>Miguel Angel</cp:lastModifiedBy>
  <dcterms:modified xsi:type="dcterms:W3CDTF">2005-06-19T18:09:29Z</dcterms:modified>
  <cp:revision>3</cp:revision>
  <dc:subject/>
  <dc:title>Diapositiva 1</dc:title>
</cp:coreProperties>
</file>